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0CC-6118-4FCA-B302-6DFF8971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908-D332-4254-8D15-522EAE5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FB1-88CD-4791-B7F9-0433723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265-F41C-4367-87BF-C85806F5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91A-535E-444F-889B-7D259189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DE9-49AC-4CED-8438-2A4B532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BB0-A71A-47E7-9905-73C78B0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E26-CB7C-4418-BA9F-1DEFB94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5C1-6ECB-4F58-9912-C7E2C01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08B-5B6C-4CF9-AE6D-D09134E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D2E-5F12-4A5D-AB9A-8D2485C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23E-8492-4A20-96D2-C4AEB4C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525-5438-463D-89A9-4C37A5E64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 guide 4-2 Covalent Bonds—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wo nonmetals bond?  Yes     They bond co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447920"/>
            <a:ext cx="8610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lent Bond = bond in which two atoms share a pair of valence electr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one pair of valence electrons shared = sing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Hydrogen – has 1 valence electron, wants 2 to be stable, so it shares with another hydrogen. Draw fig. 9 p. 1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Flo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343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drawing, use dots for electrons, then convert to a line to represent each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es – neutral group of atoms that are joined together by one or more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057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ydrogen molecule neutral because it now has 2 protons and 2 electrons shared.  So why do they sta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971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the shared electrons and the protons in each nucleus hold the atoms together in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098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at does the chemical formula look like?  Just like an ionic bond …..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wo atoms of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572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nonmetals exist as diatomic (two atoms)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Covalent Bond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99072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nonmetals can not share just on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Nitrogen – 5 valence electrons each…try to share a pair, but that only gives them 6….not stable (need 8)…so what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09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are more than one pair!  Ok…so do they share 2 pai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514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 2 electron pairs gives them 7 each…..NO!  So they need to share 3 electron pairs, which gives them stability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276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ultiple covalent bonds are called double and triple bond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581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hared pair is represented by d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shared pair =  1 dash = sing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hared pair =  2 dashes = dou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hared pair = 3 dashes = trip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drawing multiple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each symbol and dot the valence electrons for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ial and error the amount of shared electrons necessary between the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666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en sure each atom has 8 valence electrons, count up the number of shared pairs and replace with d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8098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21:12Z</dcterms:created>
  <dc:creator>jpak</dc:creator>
  <dc:description/>
  <dc:language>en-US</dc:language>
  <cp:lastModifiedBy>Farwell Area Schools</cp:lastModifiedBy>
  <dcterms:modified xsi:type="dcterms:W3CDTF">2009-02-08T19:41:06Z</dcterms:modified>
  <cp:revision>18</cp:revision>
  <dc:subject/>
  <dc:title>Note guide 4-2 Covalent Bonds</dc:title>
</cp:coreProperties>
</file>